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094724-3011-4DEE-A6B1-DC6C3C636A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88D67-8277-4DCB-A3CB-D02741C76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611EDF-695B-4425-98AF-666DBEF06D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216C7D-2F57-4056-B3A0-B87E958895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6FA816-C91E-4F10-83AC-5927614A7C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78E40A-CC71-47CB-9303-DA7C410D50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D1339D-2798-4DE8-BB28-75C950AC79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0F42AB-2A94-4618-B6B5-6D767BE1BA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D4CB26-C4F5-4178-8CAC-A3100AD4B1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B38D57-FB39-49A6-B648-53D52272CD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F62DFA-912F-426C-AB83-3A8D35E128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F99DF-0C0E-4C20-9A8B-1C8C86EE5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EE7C01-9F1C-4BAD-8A64-977A0CA4B2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D4B9AD-44CA-4A8C-B28B-1F5D2FBC08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B281CF-8D47-4145-91AB-64E5F2A1B2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A408EB-0304-4D41-9183-973C912788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DB97CA-C1AF-4D24-9B08-2A1E65179D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DEBAB-FC7F-437F-8D10-0C31C6185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0CC05-0524-4D89-8667-E964A55DF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4C3E6-EB4B-41DD-8622-9E5DDCF19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320A1-F3CC-40CA-8FA6-740B25933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58D68-42A5-4905-AFFE-2132A19C2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88FCA-2A64-4172-AF73-850CA6B38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3184F-39E0-435D-BF6F-1C6C2301C5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C6FC5-36D4-46F3-BAF8-11FA96CDE63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10F03-E93D-45B5-986C-B2DCE457A7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59920"/>
            <a:ext cx="7772400" cy="3529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TBMM’nce Kabul Edilen Bankacılık Kanunu’nda Öngörülen Yeni Düzenlemeler ve Değerlendirmeler </a:t>
            </a:r>
            <a:endParaRPr b="0" lang="en-US" sz="4800" spc="-1" strike="noStrike">
              <a:solidFill>
                <a:srgbClr val="ccecff"/>
              </a:solidFill>
              <a:latin typeface="Arial"/>
            </a:endParaRPr>
          </a:p>
        </p:txBody>
      </p:sp>
      <p:sp>
        <p:nvSpPr>
          <p:cNvPr id="212" name="PlaceHolder 2"/>
          <p:cNvSpPr>
            <a:spLocks noGrp="1"/>
          </p:cNvSpPr>
          <p:nvPr>
            <p:ph type="subTitle"/>
          </p:nvPr>
        </p:nvSpPr>
        <p:spPr>
          <a:xfrm>
            <a:off x="1371600" y="4437000"/>
            <a:ext cx="6400800" cy="1201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nsal Raporlama ve Muhasebeye İlişkin Düzenlemel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457200" y="333360"/>
            <a:ext cx="8229600" cy="6191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Yıllık faaliyet raporu</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40.-</a:t>
            </a:r>
            <a:r>
              <a:rPr b="0" lang="en-US" sz="3200" spc="-1" strike="noStrike">
                <a:solidFill>
                  <a:srgbClr val="ffffff"/>
                </a:solidFill>
                <a:latin typeface="Arial"/>
              </a:rPr>
              <a:t> Bankalar, statülerine, yönetim ve organizasyon yapılarına, insan kaynaklarına, faaliyetlerine, finansal durumlarına, yönetimin değerlendirmeleri ve geleceğe yönelik beklentilerine ilişkin bilgileri, finansal tablolarını, özet yönetim kurulu raporunu ve bağımsız denetim raporunu da içeren yıllık faaliyet raporu hazırlamak zorundadırlar. Faaliyet raporunun hazırlanmasına, ilgili mercilere bildirilmesine ve kamuya açıklanmasına ilişkin usûl ve esaslar Kurulca belirleni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57200" y="259920"/>
            <a:ext cx="8229600" cy="6264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3200" spc="-1" strike="noStrike">
                <a:solidFill>
                  <a:srgbClr val="ffffff"/>
                </a:solidFill>
                <a:latin typeface="Arial"/>
              </a:rPr>
              <a:t>Sorumluluk</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3200" spc="-1" strike="noStrike">
                <a:solidFill>
                  <a:srgbClr val="ffffff"/>
                </a:solidFill>
                <a:latin typeface="Arial"/>
              </a:rPr>
              <a:t>MADDE 41.-</a:t>
            </a:r>
            <a:r>
              <a:rPr b="0" lang="tr-TR" sz="3200" spc="-1" strike="noStrike">
                <a:solidFill>
                  <a:srgbClr val="ffffff"/>
                </a:solidFill>
                <a:latin typeface="Arial"/>
              </a:rPr>
              <a:t> Yönetim kurulu, bu Kanunun 37 nci maddesi uyarınca faaliyetlerin muhasebeleştirilmesi, finansal tabloların hazırlanması, onaylanması, denetlenmesi, yetkili mercilere sunulması ve yayımlanması dâhil finansal raporlama sistemini, görev, yetki ve sorumlulukları belirlemek, bilgi sistemlerini yeterli hale getirmek ve uygulamayı gözetmekle yükümlüdü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457200" y="333360"/>
            <a:ext cx="8229600" cy="6191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Belgelerin saklanması</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MADDE 42.-</a:t>
            </a:r>
            <a:r>
              <a:rPr b="0" lang="tr-TR" sz="2800" spc="-1" strike="noStrike">
                <a:solidFill>
                  <a:srgbClr val="ffffff"/>
                </a:solidFill>
                <a:latin typeface="Arial"/>
              </a:rPr>
              <a:t> Alınan yazılar ve faaliyetler ile ilgili belgelerin asılları veya bunun mümkün olmadığı hâllerde sıhhatlerinden şüpheye mahal vermeyecek kopyaları ve yazılan yazıların makine ile alınmış, tarih ve numara sırası verilerek düzenlenecek suretleri, usûlleri çerçevesinde ilgili banka nezdinde on yıl süreyle saklanır. Bu belgelerin mikrofilm, mikrofiş şeklinde veya elektronik, manyetik veya benzeri ortamlarda saklanmaları mümkündür. Bu maddenin uygulanmasına ilişkin usûl ve esaslar Kurulca belirlenir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lgili madde : 154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457200" y="259920"/>
            <a:ext cx="8229600" cy="6264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Özkaynaklar ve Standart Oranlar</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Koruyucu düzenlemeler</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MADDE 43.-</a:t>
            </a:r>
            <a:r>
              <a:rPr b="0" lang="tr-TR"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 Kurul, kurumsal yönetim hükümleri ile koruyucu hükümlerin uygulanmasını da dikkate alarak, her bir banka ya da banka grubu için belirlenen asgarî veya azamî standart oranlar ve sınırlardan farklı daha ihtiyatlı bir oran veya sınır tesis etmeye veya hesaplama ve bildirim dönemlerini farklılaştırmaya veya genel olarak belirlenmemiş oran ve sınırlar tespit etmeye yetkilidir.</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u="sng">
                <a:solidFill>
                  <a:srgbClr val="ffffff"/>
                </a:solidFill>
                <a:uFillTx/>
                <a:latin typeface="Arial"/>
              </a:rPr>
              <a:t>Bu Kanun kapsamında öngörülen sınırlamalara ve standart oranlara ilişkin eşiklere erişilmesi veya aşımların oluşması hâlinde, ilgili banka durumu derhal Kuruma bildirmek zorundadı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Sermaye yeterliliği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MADDE 45.-</a:t>
            </a:r>
            <a:r>
              <a:rPr b="0" lang="tr-TR" sz="2800" spc="-1" strike="noStrike">
                <a:solidFill>
                  <a:srgbClr val="ffffff"/>
                </a:solidFill>
                <a:latin typeface="Arial"/>
              </a:rPr>
              <a:t> Bu Kanunun uygulanmasında maruz kalınan riskler nedeniyle oluşabilecek zararlara karşı yeterli özkaynak bulundurulması sermaye yeterliliğini ifade eder. Bankalar, Kurum tarafından düzenlenecek yönetmelikte öngörülen usûl ve esaslara göre </a:t>
            </a:r>
            <a:r>
              <a:rPr b="0" lang="tr-TR" sz="2800" spc="-1" strike="noStrike" u="sng">
                <a:solidFill>
                  <a:srgbClr val="ffffff"/>
                </a:solidFill>
                <a:uFillTx/>
                <a:latin typeface="Arial"/>
              </a:rPr>
              <a:t>yüzde sekiz oranından</a:t>
            </a:r>
            <a:r>
              <a:rPr b="0" lang="tr-TR" sz="2800" spc="-1" strike="noStrike">
                <a:solidFill>
                  <a:srgbClr val="ffffff"/>
                </a:solidFill>
                <a:latin typeface="Arial"/>
              </a:rPr>
              <a:t> az olmamak üzere belirlenecek sermaye yeterliliği oranını hesaplamak, tutturmak, idame ettirmek ve raporlamak zorundadır.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nkaların iç sistemleri, aktif ve malî yapıları dikkate alınarak asgarî sermaye yeterliliği oranını artırmaya, </a:t>
            </a:r>
            <a:r>
              <a:rPr b="0" lang="tr-TR" sz="2800" spc="-1" strike="noStrike" u="sng">
                <a:solidFill>
                  <a:srgbClr val="ffffff"/>
                </a:solidFill>
                <a:uFillTx/>
                <a:latin typeface="Arial"/>
              </a:rPr>
              <a:t>bankalar bazında farklılaştırmaya,</a:t>
            </a:r>
            <a:r>
              <a:rPr b="0" lang="tr-TR" sz="2800" spc="-1" strike="noStrike">
                <a:solidFill>
                  <a:srgbClr val="ffffff"/>
                </a:solidFill>
                <a:latin typeface="Arial"/>
              </a:rPr>
              <a:t> kaynağı katılma hesabı olan aktiflerin risk ağırlıklarının belirlenmesinde bu hesapların özelliklerini dikkate almak suretiyle düzenleme yapmaya Kurul yetkilidir.</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Likidite yeterliliği</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46.-</a:t>
            </a:r>
            <a:r>
              <a:rPr b="0" lang="en-US" sz="3200" spc="-1" strike="noStrike">
                <a:solidFill>
                  <a:srgbClr val="ffffff"/>
                </a:solidFill>
                <a:latin typeface="Arial"/>
              </a:rPr>
              <a:t> Bankalar, Merkez Bankasının uygun görüşü alınmak suretiyle Kurulca belirlenecek usûl ve esaslara göre asgarî likidite düzeyini hesaplamak, tutturmak, idame ettirmek ve raporlamak zorundadır.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Karşılıklar ve teminatla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53.-</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Bu madde uyarınca krediler ve diğer alacaklarla ilgili olarak ayrılan özel karşılıkların tamamı, ayrıldıkları yılda kurumlar vergisi matrahının tespitinde gider olarak kabul edili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gili madde : 146 / 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3200" spc="-1" strike="noStrike">
                <a:solidFill>
                  <a:srgbClr val="ffffff"/>
                </a:solidFill>
                <a:latin typeface="Arial"/>
              </a:rPr>
              <a:t>Sandık ve vakıflara ilişkin işleml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3200" spc="-1" strike="noStrike">
                <a:solidFill>
                  <a:srgbClr val="ffffff"/>
                </a:solidFill>
                <a:latin typeface="Arial"/>
              </a:rPr>
              <a:t>MADDE 58.-</a:t>
            </a:r>
            <a:r>
              <a:rPr b="0" lang="tr-TR" sz="3200" spc="-1" strike="noStrike">
                <a:solidFill>
                  <a:srgbClr val="ffffff"/>
                </a:solidFill>
                <a:latin typeface="Arial"/>
              </a:rPr>
              <a:t> Bankalarca münhasıran çalışanlarına ait olmak üzere sağlık ve sosyal yardım, emeklilik, ihtiyat ve tasarruf sağlama amaçlarıyla kurulan sandık ve vakıflara açıklarının kapatılması için  kaynak aktarılamaz.</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İlgili madde: Geçiçi 7, 23 ve 146 /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Bağış sınırları</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MADDE 59.-</a:t>
            </a:r>
            <a:r>
              <a:rPr b="0" lang="tr-TR" sz="2800" spc="-1" strike="noStrike">
                <a:solidFill>
                  <a:srgbClr val="ffffff"/>
                </a:solidFill>
                <a:latin typeface="Arial"/>
              </a:rPr>
              <a:t> Bankalar ve konsolide denetime tâbi kuruluşlarca bir malî yılda yapılabilecek bağış miktarı, </a:t>
            </a:r>
            <a:r>
              <a:rPr b="0" lang="tr-TR" sz="2800" spc="-1" strike="noStrike" u="sng">
                <a:solidFill>
                  <a:srgbClr val="ffffff"/>
                </a:solidFill>
                <a:uFillTx/>
                <a:latin typeface="Arial"/>
              </a:rPr>
              <a:t>banka özkaynaklarının binde dördünü aşamaz.</a:t>
            </a:r>
            <a:r>
              <a:rPr b="0" lang="tr-TR" sz="2800" spc="-1" strike="noStrike">
                <a:solidFill>
                  <a:srgbClr val="ffffff"/>
                </a:solidFill>
                <a:latin typeface="Arial"/>
              </a:rPr>
              <a:t> Ancak, yapılan bağış ve yardımların </a:t>
            </a:r>
            <a:r>
              <a:rPr b="0" lang="tr-TR" sz="2800" spc="-1" strike="noStrike" u="sng">
                <a:solidFill>
                  <a:srgbClr val="ffffff"/>
                </a:solidFill>
                <a:uFillTx/>
                <a:latin typeface="Arial"/>
              </a:rPr>
              <a:t>en az yarısının, kurumlar vergisi matrahının tespitinde gider veya indirim olarak dikkate alınabilecek bağış ve yardımlardan oluşması zorunludur.</a:t>
            </a:r>
            <a:r>
              <a:rPr b="0" lang="tr-TR" sz="2800" spc="-1" strike="noStrike">
                <a:solidFill>
                  <a:srgbClr val="ffffff"/>
                </a:solidFill>
                <a:latin typeface="Arial"/>
              </a:rPr>
              <a:t> Bu hükmün uygulanmasına ilişkin usûl ve esaslar Kurulca belirlenir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lgili madde : 146 / 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Zamanaşımı</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62.-</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Zamanaşımına uğrayan her türlü mevduat, katılım fonu, emanet ve alacaklar banka tarafından hak sahibine ulaşılamaması hâlinde, </a:t>
            </a:r>
            <a:r>
              <a:rPr b="0" lang="en-US" sz="3200" spc="-1" strike="noStrike" u="sng">
                <a:solidFill>
                  <a:srgbClr val="ffffff"/>
                </a:solidFill>
                <a:uFillTx/>
                <a:latin typeface="Arial"/>
              </a:rPr>
              <a:t>yapılacak ilânı</a:t>
            </a:r>
            <a:r>
              <a:rPr b="0" lang="en-US" sz="3200" spc="-1" strike="noStrike">
                <a:solidFill>
                  <a:srgbClr val="ffffff"/>
                </a:solidFill>
                <a:latin typeface="Arial"/>
              </a:rPr>
              <a:t> müteakiben Fona gelir kaydedili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 maddenin uygulanması ile ilgili usûl ve esaslar Kurulca belirlenir.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
          <p:cNvSpPr/>
          <p:nvPr/>
        </p:nvSpPr>
        <p:spPr>
          <a:xfrm>
            <a:off x="250920" y="1266480"/>
            <a:ext cx="8497800" cy="435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nımlar ve kısaltmala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DDE 3.- Bu Kanunun uygulanmasında;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nsal Holding Şirketi: İçlerinden en az bir tanesi bir kredi kuruluşu olmak şartıyla bağlı ortaklıklarının tümü veya çoğunluğu kredi kuruluşu veya finansal kuruluş olan şirketi,</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lgili madde : 78</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Deneti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65.-</a:t>
            </a:r>
            <a:r>
              <a:rPr b="0" lang="en-US" sz="3200" spc="-1" strike="noStrike">
                <a:solidFill>
                  <a:srgbClr val="ffffff"/>
                </a:solidFill>
                <a:latin typeface="Arial"/>
              </a:rPr>
              <a:t> Bu Kanun kapsamındaki kuruluşlar ve bunların faaliyetleri, Kurumun denetim ve gözetimine tâbidi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u="sng">
                <a:solidFill>
                  <a:srgbClr val="ffffff"/>
                </a:solidFill>
                <a:uFillTx/>
                <a:latin typeface="Arial"/>
              </a:rPr>
              <a:t>Kurum, bankaların genel kurul toplantılarına gözlemci sıfatıyla temsilci gönderebilir.</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istemik riske karşı alınacak önlemler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DDE 72.-</a:t>
            </a:r>
            <a:r>
              <a:rPr b="0" lang="en-US" sz="2800" spc="-1" strike="noStrike">
                <a:solidFill>
                  <a:srgbClr val="ffffff"/>
                </a:solidFill>
                <a:latin typeface="Arial"/>
              </a:rPr>
              <a:t> Finansal sistemin bütününe sirayet edebilecek ölçüde olumsuz bir gelişmenin ortaya çıkması ve bu durumun Kurumun koordinasyonunda, Fon, Hazine Müsteşarlığı ve Merkez Bankasınca müştereken tespiti hâlinde, alınacak </a:t>
            </a:r>
            <a:r>
              <a:rPr b="0" lang="en-US" sz="2800" spc="-1" strike="noStrike" u="sng">
                <a:solidFill>
                  <a:srgbClr val="ffffff"/>
                </a:solidFill>
                <a:uFillTx/>
                <a:latin typeface="Arial"/>
              </a:rPr>
              <a:t>olağanüstü tedbirleri belirlemeye Bakanlar Kurulu yetkili</a:t>
            </a:r>
            <a:r>
              <a:rPr b="0" lang="en-US" sz="2800" spc="-1" strike="noStrike">
                <a:solidFill>
                  <a:srgbClr val="ffffff"/>
                </a:solidFill>
                <a:latin typeface="Arial"/>
              </a:rPr>
              <a:t> olup, ilgili bütün kurum ve kuruluşlar belirlenen bu olağanüstü tedbirleri derhal uygulamakla yetkili ve sorumludur.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457200" y="475920"/>
            <a:ext cx="8229600" cy="6048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Finansal holding şirketi</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MADDE 78.-</a:t>
            </a:r>
            <a:r>
              <a:rPr b="0" lang="tr-TR"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 Finansal holding şirketleri hakkında, Kurulca belirlenecek usûl ve esaslar çerçevesinde bu Kanunun 14, 15, 16, 18, 22, 23, 24, 25, 26, 28, 29, 30, 31, 32, 33, 34, 35, 36, 37, 38, 39, 40, 41, 42, 43, 44, 47,  65, 66, 67, 68, 69, 70, 71, 72, 73,  78,  93, 95 ve 96 ncı madde hükümleri ve bu maddelere ilişkin ceza hükümleri uygulanır.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u="sng">
                <a:solidFill>
                  <a:srgbClr val="ffffff"/>
                </a:solidFill>
                <a:uFillTx/>
                <a:latin typeface="Arial"/>
              </a:rPr>
              <a:t>Finansal holding şirketleri bakımından belirlenecek standart oranlar ve  sınırlamalar ile yapılacak hesaplamalar yalnızca konsolide bazda dikkate alını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260280"/>
            <a:ext cx="8229600" cy="6337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Bankacılık Düzenleme ve Denetleme Kurumuna İlişkin Hükümler</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Yerinde denetim ve gözetim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95.-</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Bu Kanuna tabî kuruluşlar tarafından, Kurulca belirlenen usûl ve esaslar çerçevesinde konsolide ve konsolide olmayan bazda istenilen her türlü bilgi, belge, cetvel, rapor ve finansal tabloların, hesap ve kayıt düzenleriyle uyumlu olarak, zamanında ve doğru şekilde Kuruma tevdi edilmesi şarttır….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lgili madde : 146 / p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uruluşlara ilişkin idarî para cezaları</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DDE 146</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lgili kişilere ilişkin idarî para cezaları</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DDE 147</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ınırlamalara, kararlara ve düzenlemelere aykırı hareketler dolayısıyla idarî para cezaları</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DDE 148</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vunma hakkı ve kapatma kararı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DDE 149</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çlar</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DDE 150, 151,152,153,154155,156,157,158,159,160,161</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EÇİCİ MADDE 1.-</a:t>
            </a:r>
            <a:r>
              <a:rPr b="0" lang="en-US" sz="3200" spc="-1" strike="noStrike">
                <a:solidFill>
                  <a:srgbClr val="ffffff"/>
                </a:solidFill>
                <a:latin typeface="Arial"/>
              </a:rPr>
              <a:t> Bu Kanuna göre çıkarılacak yönetmelik, tebliğ ve kararlar yürürlüğe girinceye kadar, kaldırılan hükümlere dayanılarak çıkarılan düzenlemelerin, bu Kanuna aykırı olmayan hükümlerinin uygulanmasına devam olunu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 Kanunda öngörülen düzenlemeler bir yıl içerisinde yürürlüğe konulu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7200" y="259920"/>
            <a:ext cx="8229600" cy="65977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ÇİCİ MADDE 3.-</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Bankalar bu Kanunun yürürlüğe girmesinden itibaren, </a:t>
            </a:r>
            <a:r>
              <a:rPr b="0" lang="en-US" sz="2800" spc="-1" strike="noStrike" u="sng">
                <a:solidFill>
                  <a:srgbClr val="ffffff"/>
                </a:solidFill>
                <a:uFillTx/>
                <a:latin typeface="Arial"/>
              </a:rPr>
              <a:t>iki ay içinde faaliyet gösterdikleri alanları bildiren beyannameyi Kuruma verirler.</a:t>
            </a:r>
            <a:r>
              <a:rPr b="0" lang="en-US" sz="2800" spc="-1" strike="noStrike">
                <a:solidFill>
                  <a:srgbClr val="ffffff"/>
                </a:solidFill>
                <a:latin typeface="Arial"/>
              </a:rPr>
              <a:t> Bankalar, faaliyetlerini bu Kanunun 4 üncü maddesi kapsamındaki faaliyet konularını genişletmeden önce Kurumdan izin almak zorundadır.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u="sng">
                <a:solidFill>
                  <a:srgbClr val="ffffff"/>
                </a:solidFill>
                <a:uFillTx/>
                <a:latin typeface="Arial"/>
              </a:rPr>
              <a:t>Bankalar ve finansal holding şirketleri durumlarını, bu Kanun hükümlerine bir yıl içinde intibak ettirmek zorundadır.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alen faaliyette bulunan </a:t>
            </a:r>
            <a:r>
              <a:rPr b="0" lang="en-US" sz="2800" spc="-1" strike="noStrike" u="sng">
                <a:solidFill>
                  <a:srgbClr val="ffffff"/>
                </a:solidFill>
                <a:uFillTx/>
                <a:latin typeface="Arial"/>
              </a:rPr>
              <a:t>özel finans kurumları, bir yıl içerisinde ticaret unvanlarını katılım bankası ibaresini de kapsayacak şekilde değiştirmek</a:t>
            </a:r>
            <a:r>
              <a:rPr b="0" lang="en-US" sz="2800" spc="-1" strike="noStrike">
                <a:solidFill>
                  <a:srgbClr val="ffffff"/>
                </a:solidFill>
                <a:latin typeface="Arial"/>
              </a:rPr>
              <a:t> ve mevcut durumlarını Kanunun finansal raporlamayla ilgili hükümlerine intibak ettirmek zorundadı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GEÇİCİ MADDE 4.-</a:t>
            </a:r>
            <a:r>
              <a:rPr b="0" lang="tr-TR" sz="3200" spc="-1" strike="noStrike">
                <a:solidFill>
                  <a:srgbClr val="ffffff"/>
                </a:solidFill>
                <a:latin typeface="Arial"/>
              </a:rPr>
              <a:t> Kurumca yetkilendirilen Bağımsız denetim kuruluşları durumlarını 31.12.2006 tarihine kadar 36 ncı madde hükmüne uygun hale getirmek zorundadı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GEÇİCİ MADDE 7.-</a:t>
            </a:r>
            <a:r>
              <a:rPr b="0" lang="tr-TR" sz="3200" spc="-1" strike="noStrike">
                <a:solidFill>
                  <a:srgbClr val="ffffff"/>
                </a:solidFill>
                <a:latin typeface="Arial"/>
              </a:rPr>
              <a:t> 506 sayılı Sosyal Sigortalar Kanununun geçici 20 nci maddesi kapsamında sandık ve vakıfları bulunan bankalar durumlarını 31.12.2007 tarihine kadar 58 inci madde hükmüne uygun hale getirmek zorundadırla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EÇİCİ MADDE 23.-</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personeli için kurulmuş bulunan sandıkların….  bu maddenin yayımı tarihinden itibaren üç yıl içinde Sosyal Sigortalar Kurumuna  devredilerek 506 sayılı Kanun  kapsamına alını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215" name=""/>
          <p:cNvSpPr/>
          <p:nvPr/>
        </p:nvSpPr>
        <p:spPr>
          <a:xfrm>
            <a:off x="468360" y="-1111320"/>
            <a:ext cx="8424720" cy="7072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uruluş şartları</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ADDE 7.- Türkiye'de kurulacak bir bankanın;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f) Nakden ve her türlü muvazaadan âri olarak ödenmiş sermayesinin en az otuzmilyon Yeni Türk Lirası olması,</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Yurt içinde şube açma</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13.-</a:t>
            </a:r>
            <a:r>
              <a:rPr b="0" lang="en-US" sz="3200" spc="-1" strike="noStrike">
                <a:solidFill>
                  <a:srgbClr val="ffffff"/>
                </a:solidFill>
                <a:latin typeface="Arial"/>
              </a:rPr>
              <a:t> Kurulca belirlenecek esaslara ve bu Kanunda yer alan kurumsal yönetim hükümleri ile koruyucu hükümlere uyulmuş olması ve Kuruma bildirilmesi şartıyla bankalarca yurt içinde şube açılması serbesttir.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lgili madde : 146 / a</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457200" y="907920"/>
            <a:ext cx="8229600" cy="5113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Bağımsız denetim, değerleme, derecelendirme ve destek hizmeti kuruluşlarının yetkilendirme izni</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DDE 15.-</a:t>
            </a:r>
            <a:r>
              <a:rPr b="0" lang="en-US" sz="2800" spc="-1" strike="noStrike">
                <a:solidFill>
                  <a:srgbClr val="ffffff"/>
                </a:solidFill>
                <a:latin typeface="Arial"/>
              </a:rPr>
              <a:t> Bankaların bağımsız denetim, değerleme, derecelendirme ve destek hizmeti faaliyetlerini gerçekleştirecek olan kuruluşların yetkilendirilmesine, yetkilerinin geçici veya sürekli olarak kaldırılmasına Kurulca karar verilir. Buna ilişkin  usûl ve esaslar ilgili meslek birliklerinin görüşü alınarak Kurulca belirleni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457200" y="549360"/>
            <a:ext cx="8229600" cy="5975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na sözleşme değişiklikleri</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16.-</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Bankalar ana sözleşmelerini güncel olarak </a:t>
            </a:r>
            <a:r>
              <a:rPr b="0" lang="en-US" sz="3200" spc="-1" strike="noStrike" u="sng">
                <a:solidFill>
                  <a:srgbClr val="ffffff"/>
                </a:solidFill>
                <a:uFillTx/>
                <a:latin typeface="Arial"/>
              </a:rPr>
              <a:t>internet sayfalarında yayınlar</a:t>
            </a:r>
            <a:r>
              <a:rPr b="0" lang="en-US" sz="3200" spc="-1" strike="noStrike">
                <a:solidFill>
                  <a:srgbClr val="ffffff"/>
                </a:solidFill>
                <a:latin typeface="Arial"/>
              </a:rPr>
              <a:t>. Ana sözleşmelerin güncelleştirilmesi, değişikliklerin gerçekleştiği tarihten itibaren on iş günü içerisinde yapılmak zorundadı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Pay edinim ve devirleri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18.-</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 izinlerin verilmesinde, bankanın devralınan hisselerinin nominal değerinin yüzde biri oranında devir payının devralan tarafından Fona yatırılması zorunludu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Finansal Raporlam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uhasebe ve raporlama sistemi </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DDE 37.-</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Bankalar, kanunî ve yardımcı defter  ve kayıtlarını, şubeleri, yurt içi ve yurt dışındaki muhabirleri ile hesap </a:t>
            </a:r>
            <a:r>
              <a:rPr b="1" lang="en-US" sz="2800" spc="-1" strike="noStrike" u="sng">
                <a:solidFill>
                  <a:srgbClr val="ffffff"/>
                </a:solidFill>
                <a:uFillTx/>
                <a:latin typeface="Arial"/>
              </a:rPr>
              <a:t>mutabakatı</a:t>
            </a:r>
            <a:r>
              <a:rPr b="1" lang="en-US" sz="2800" spc="-1" strike="noStrike">
                <a:solidFill>
                  <a:srgbClr val="ffffff"/>
                </a:solidFill>
                <a:latin typeface="Arial"/>
              </a:rPr>
              <a:t> sağlamadan bilançolarını kapatamazlar…</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endParaRPr b="0" lang="en-US" sz="36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360" y="260280"/>
            <a:ext cx="8893080" cy="63374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Konsolide finansal raporla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MADDE  38.</a:t>
            </a:r>
            <a:r>
              <a:rPr b="0" lang="tr-TR"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Finansal raporların imzalanması, sunulması, ilânı ve denetimi</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MADDE 39.-</a:t>
            </a:r>
            <a:r>
              <a:rPr b="0" lang="tr-TR"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400" spc="-1" strike="noStrike">
                <a:solidFill>
                  <a:srgbClr val="ffffff"/>
                </a:solidFill>
                <a:latin typeface="Arial"/>
              </a:rPr>
              <a:t>Bankalar tarafından hazırlanan finansal raporlardan Kurulca belirlenecek olanların, </a:t>
            </a:r>
            <a:r>
              <a:rPr b="1" lang="tr-TR" sz="2400" spc="-1" strike="noStrike" u="sng">
                <a:solidFill>
                  <a:srgbClr val="ffffff"/>
                </a:solidFill>
                <a:uFillTx/>
                <a:latin typeface="Arial"/>
              </a:rPr>
              <a:t>yönetim kurulu başkanı, denetim komitesi üyeleri, genel müdür ile finansal raporlamadan sorumlu genel müdür yardımcısı ve ilgili birim müdürü</a:t>
            </a:r>
            <a:r>
              <a:rPr b="0" lang="tr-TR" sz="2400" spc="-1" strike="noStrike">
                <a:solidFill>
                  <a:srgbClr val="ffffff"/>
                </a:solidFill>
                <a:latin typeface="Arial"/>
              </a:rPr>
              <a:t> veya bu unvanlara eşdeğer kişiler tarafından ad, soyad ve unvan belirtilmek suretiyl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Bankaların genel kurullarına sunacağı yıllık finansal raporların bağımsız denetim kuruluşlarınca onaylanması şarttır...</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8T15:03:13Z</dcterms:created>
  <dc:creator>OSMGU</dc:creator>
  <dc:description/>
  <dc:language>en-US</dc:language>
  <cp:lastModifiedBy>tascioglua</cp:lastModifiedBy>
  <dcterms:modified xsi:type="dcterms:W3CDTF">2005-11-14T08:48:40Z</dcterms:modified>
  <cp:revision>6</cp:revision>
  <dc:subject/>
  <dc:title>Slide 1</dc:title>
</cp:coreProperties>
</file>